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222C-53EF-48DD-B442-6340E7CCF11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A194-AE1F-4EB5-ACF4-0D96900E0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BE45-FE61-4D0C-9342-2F259D15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1D62-9497-4956-933D-778B58594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58EC-D6D5-4EE2-B01E-D95E31F58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4644-C84F-4285-A4B9-74697CB0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7978-06F0-48EF-A9CD-4881A938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B521-394E-420A-ACBE-0F8B5FA7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A0BF-BFA9-497B-A14E-9B5E1CFF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F71F-B740-4E07-84D2-6DC16A19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F994-3BEA-47F3-A5AE-94B39443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46EA-5669-4EE0-8140-43DDAE6F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E70A-DFE2-4095-B776-70BA124B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761B-8495-4F3A-B310-0B8D3C9F8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 rot="5400000">
            <a:off x="-1801440" y="2817000"/>
            <a:ext cx="6264360" cy="10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Beyoncé</a:t>
            </a:r>
            <a:endParaRPr b="0" lang="en-US" sz="60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322800" y="0"/>
            <a:ext cx="582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he  was born the 4th of September in 19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he is the daugther of Tina Knowles &amp; Matthew Know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er nickname is: b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he was the fundator of her group Destiny’s 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28338" t="3789" r="26297" b="20627"/>
          <a:stretch/>
        </p:blipFill>
        <p:spPr>
          <a:xfrm rot="20097600">
            <a:off x="7380000" y="3499920"/>
            <a:ext cx="9936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isc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er, first album in solitary, "Dangerously In Love ", Beyoncé have a collaborators like, Jay-Z, Sean Paul, Mark Batson, Mario Winans, D-Roy and Mr. B, Big Boi of OutKast, Rich Harrison, Fanatic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eptember, 2006 Beyoncé publishes, the second disc in solitarily “B’ day” after Destiny's Child's separation. That is coproduced by she, the single is Deja V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reamgirls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istory of "Dreamgirls" passes in the period included betwen the beginning of the ones sixty and the half of the seventies, during that there is described the ascent of a women's trio: Effie, Deena and Lorrell, which have trained a promising group called The Dreamet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ink panther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amous trainer of football has been murdered and his ring, with a diamond known as "The pink panther " has been stolen. The French government needs a detective to solve the crime and to obtain the valued ring. And for it they recruit Jacques Clous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0" t="0" r="0" b="11670"/>
          <a:stretch/>
        </p:blipFill>
        <p:spPr>
          <a:xfrm>
            <a:off x="179280" y="4149720"/>
            <a:ext cx="3810240" cy="2523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995640" y="4221000"/>
            <a:ext cx="439272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all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rcRect l="14621" t="0" r="19568" b="61373"/>
          <a:stretch/>
        </p:blipFill>
        <p:spPr>
          <a:xfrm>
            <a:off x="324000" y="1125360"/>
            <a:ext cx="1942920" cy="1656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843280" y="1197000"/>
            <a:ext cx="2933640" cy="3456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867280" y="1197000"/>
            <a:ext cx="3129120" cy="3128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6588000" y="4437000"/>
            <a:ext cx="2187720" cy="2187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rcRect l="16353" t="0" r="3963" b="0"/>
          <a:stretch/>
        </p:blipFill>
        <p:spPr>
          <a:xfrm>
            <a:off x="179280" y="2946240"/>
            <a:ext cx="2521080" cy="2308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rcRect l="0" t="0" r="6814" b="50011"/>
          <a:stretch/>
        </p:blipFill>
        <p:spPr>
          <a:xfrm>
            <a:off x="3059280" y="4797360"/>
            <a:ext cx="3106440" cy="1666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rcRect l="21226" t="0" r="20785" b="61175"/>
          <a:stretch/>
        </p:blipFill>
        <p:spPr>
          <a:xfrm>
            <a:off x="179280" y="5373720"/>
            <a:ext cx="25923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With the Destiny’s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2881440" cy="2864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rcRect l="0" t="0" r="0" b="61334"/>
          <a:stretch/>
        </p:blipFill>
        <p:spPr>
          <a:xfrm>
            <a:off x="250920" y="3716280"/>
            <a:ext cx="2857320" cy="1473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250920" y="5229360"/>
            <a:ext cx="1944720" cy="1458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rcRect l="0" t="0" r="0" b="44558"/>
          <a:stretch/>
        </p:blipFill>
        <p:spPr>
          <a:xfrm>
            <a:off x="3419640" y="765000"/>
            <a:ext cx="4105080" cy="1584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rcRect l="0" t="0" r="0" b="4025"/>
          <a:stretch/>
        </p:blipFill>
        <p:spPr>
          <a:xfrm>
            <a:off x="3276720" y="2421000"/>
            <a:ext cx="2060280" cy="2808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5796000" y="2492280"/>
            <a:ext cx="2987640" cy="1949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6659640" y="4508640"/>
            <a:ext cx="2192400" cy="2192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9"/>
          <a:srcRect l="34002" t="0" r="20629" b="44562"/>
          <a:stretch/>
        </p:blipFill>
        <p:spPr>
          <a:xfrm>
            <a:off x="2268360" y="5300640"/>
            <a:ext cx="1224000" cy="1122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0"/>
          <a:srcRect l="16213" t="366" r="24006" b="50022"/>
          <a:stretch/>
        </p:blipFill>
        <p:spPr>
          <a:xfrm>
            <a:off x="3564000" y="5572080"/>
            <a:ext cx="1368360" cy="1069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1"/>
          <a:srcRect l="11125" t="0" r="4414" b="60137"/>
          <a:stretch/>
        </p:blipFill>
        <p:spPr>
          <a:xfrm>
            <a:off x="5148360" y="5297400"/>
            <a:ext cx="1368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Watch h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us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Stand up for love (with the Destiny’s Chil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Listen (Beyoncé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932360" y="1125360"/>
            <a:ext cx="3927600" cy="2678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55640" y="63817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lick on the image to see 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643280" y="3933720"/>
            <a:ext cx="42912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492360" y="189000"/>
            <a:ext cx="20052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ff00"/>
                  </a:solidFill>
                  <a:miter/>
                </a:ln>
                <a:solidFill>
                  <a:srgbClr val="99ff99"/>
                </a:solidFill>
                <a:latin typeface="Arial Black"/>
              </a:rPr>
              <a:t>By:</a:t>
            </a:r>
            <a:endParaRPr b="0" lang="en-US" sz="1800" spc="1" strike="noStrike">
              <a:ln w="15840">
                <a:solidFill>
                  <a:srgbClr val="00ff00"/>
                </a:solidFill>
                <a:miter/>
              </a:ln>
              <a:solidFill>
                <a:srgbClr val="99ff99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4360" y="2784600"/>
            <a:ext cx="7775280" cy="23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99ff99"/>
                </a:solidFill>
                <a:latin typeface="Arial Black"/>
              </a:rPr>
              <a:t>Cristina Dorado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99ff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08:12:57Z</dcterms:created>
  <dc:creator>Alumno48</dc:creator>
  <dc:description/>
  <dc:language>en-US</dc:language>
  <cp:lastModifiedBy>Alumno47</cp:lastModifiedBy>
  <dcterms:modified xsi:type="dcterms:W3CDTF">2008-06-10T11:03:02Z</dcterms:modified>
  <cp:revision>10</cp:revision>
  <dc:subject/>
  <dc:title>Diapositiva 1</dc:title>
</cp:coreProperties>
</file>